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5.wmf" ContentType="image/x-wmf"/>
  <Override PartName="/ppt/media/image1.jpeg" ContentType="image/jpe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5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B8B-6416-47C9-9391-0BF178EF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50B-3269-426F-9FA9-EEF63306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4C1-8AF7-42F6-8802-E894F501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9D2-3953-4256-853A-E740A53B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4FE0-8459-41B4-89E0-7A80ABA4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404-333E-490C-B164-B55E8CF2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9AB6-C61B-441C-8055-32B9825A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8D81-CB11-4F83-9D3F-BAC67113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6B40-65C7-42E6-AED0-72AF245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E06C-2A56-4428-9242-617A978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A1BE-3A29-4330-9393-59E1EA4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7A0-ABF7-4AFC-BEA4-BDF7DC55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3B1-9D16-4BFD-8D1A-137BBB30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7DBF-4A57-4182-BB64-B3D2653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B817-6ACC-4C8E-ADF8-D619B6C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C411-BD48-4BA1-B5E6-4CF0939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AAC7-57C1-4F9D-86DE-70F26B95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55DA-B4E8-4E45-8B15-A23721CB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0A21-D04D-4214-BEFA-A71383C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9311-E818-4DBE-9212-9BD1BF0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E060-EC29-44DC-B0A3-405E5A2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95B6-A985-4528-9D8D-064348F6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D9E-E02E-4C6E-A37D-9BD9E49E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F4F8-4395-4CA0-9825-E34029AB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F8DF-BF00-4E0A-917B-A6D5283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5D23-07F0-4EBA-923C-89B737D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6BD4-14E0-4CD8-B2FB-594D1991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E51A-021A-4945-8D10-4883467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A51A-B5A9-4FD6-8305-6DC3356B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A636-CA31-4CCA-8AC6-4ED74F06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EA83-2793-4B22-B12C-C8DB2CC2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0F87-4EEB-463E-9EAD-8B4EDE23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301E-6E09-44B8-AB93-6FF84A7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DCB-34F4-4464-B0FD-A3C6C0A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BC14-91C6-4CD9-A94A-133C4D3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CF35-D0AB-42F0-A6D1-5E0FA196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F14D-93D3-4871-9090-6F196189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3D11-9DFC-41F0-9759-6D39BD9F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5179-BE1A-4306-A15F-15F1D44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6802-C27D-47DA-B937-89FC5FF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33B1-A5D2-43CD-BB4B-1D12EB7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A95A-B992-4A68-AD84-B03F5EE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5201-C838-493B-BE25-FD010037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361-BB1E-4967-B5DA-6F67E39B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A36-ED66-4516-8C9B-F649E82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CB0-F362-426D-BD21-3FD0E18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6A3-5477-4937-9F56-B345170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E45-AA07-4F20-AE44-7EF352D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72B-1578-480C-8928-2A613A1878A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7D11-FFC0-4C5F-AD65-70D0CED72A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2731-F01E-4EEA-BCF3-AD1304D5C84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20A9-7042-493C-A13F-B9F2F176C33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478C-C05C-4761-8AF0-C55886F7133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0533-74EA-4343-9EE8-18F6F7A2DC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E92-28CC-43ED-B70B-8E2BB04AEE4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E88-26A2-4A18-9DE3-7729C60D08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414360"/>
            <a:ext cx="7864560" cy="2017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C:\Documents and Settings\whiteand\Local Settings\Temporary Internet Files\Content.IE5\JJQ8HIO1\MPj04000900000[1].jpg"/>
          <p:cNvPicPr/>
          <p:nvPr/>
        </p:nvPicPr>
        <p:blipFill>
          <a:blip r:embed="rId2"/>
          <a:stretch/>
        </p:blipFill>
        <p:spPr>
          <a:xfrm>
            <a:off x="1828800" y="3352680"/>
            <a:ext cx="5181480" cy="2691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10472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Aspects of Group Process: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Decision -mak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39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process does the group use to make decisio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 the process agreed upon by every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oes the process change as group proceed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oes anyone make a decision and carry it out without agreement from the oth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 there evidence of a majority pushing a dec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minority opinions hear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Aspects of Group Process: Problem-solving</a:t>
            </a: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group take time to understand the problem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problem well articulated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re time for brainstorming creative solutions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the group move to from problem identification,  identifying possible solutions, to selecting solutions and implementatio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Group Problem Solv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771640" y="2590920"/>
            <a:ext cx="3476880" cy="2666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6081840" y="2416320"/>
            <a:ext cx="28321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for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55200" y="1730520"/>
            <a:ext cx="17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037200" y="5083200"/>
            <a:ext cx="1822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176720" y="5540400"/>
            <a:ext cx="2222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984840" y="1979640"/>
            <a:ext cx="252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idea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832040" y="5235480"/>
            <a:ext cx="250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196280" y="4626000"/>
            <a:ext cx="183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839880" y="3940200"/>
            <a:ext cx="197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982440" y="3254400"/>
            <a:ext cx="112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342800" y="2644920"/>
            <a:ext cx="163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/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1500840" y="2111400"/>
            <a:ext cx="154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2035080" y="1522440"/>
            <a:ext cx="2942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Recognizing Dysfunctional Behavio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gres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ina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draw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 of field behavi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Team Roles: Task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097000"/>
            <a:ext cx="8192880" cy="415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tia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king and Giving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iz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ensus Tak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Team Roles: Relationship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 Gatekeep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ourag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ing Confli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knowledging Feeling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ting Standards/Nor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n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Attitudes for Effective Teamwork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eciation for value of team decis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ect for team memb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tual tru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ness to feedba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 on group process and interest in impro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vi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Team Exerci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Content Placeholder 3" descr=""/>
          <p:cNvPicPr/>
          <p:nvPr/>
        </p:nvPicPr>
        <p:blipFill>
          <a:blip r:embed="rId1"/>
          <a:srcRect l="0" t="-21485" r="0" b="-21485"/>
          <a:stretch/>
        </p:blipFill>
        <p:spPr>
          <a:xfrm>
            <a:off x="457200" y="1752480"/>
            <a:ext cx="4038480" cy="4434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648320" y="160020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ions for Observ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ions for Team memb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 Exerci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oring, Team members and Observer com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4617b"/>
                </a:solidFill>
                <a:latin typeface="Arial"/>
                <a:ea typeface="Arial"/>
              </a:rPr>
              <a:t>What are Characteristics of Effective Teams? 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have a clear 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cus is on achieving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a plan for achieving the 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have clear r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are committed to the 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are compet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achieve decisions through consens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diversity among team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have effective interpersonal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know each other well and have good relation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More Characteristics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ember feels empowered to act, speak up, offer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ember has a high standard of excell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formal climate and easiness exists among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has the support of 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is open to new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periodic self-assess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shared leadership of the te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is a relatively small 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recognition of team member accomplish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ufficient resources to support the team 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Teaching Team Skills:</a:t>
            </a:r>
            <a:br>
              <a:rPr sz="5000"/>
            </a:br>
            <a:r>
              <a:rPr b="0" lang="en-US" sz="3600" spc="-1" strike="noStrike">
                <a:solidFill>
                  <a:srgbClr val="04617b"/>
                </a:solidFill>
                <a:latin typeface="Arial"/>
                <a:ea typeface="Arial"/>
              </a:rPr>
              <a:t>Goals for Toda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2271240"/>
            <a:ext cx="548640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Team Competencies/ Content fo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am exercise – as an ex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bservation and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view Handbook Cont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Questions and eval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Content Placeholder 6" descr=""/>
          <p:cNvPicPr/>
          <p:nvPr/>
        </p:nvPicPr>
        <p:blipFill>
          <a:blip r:embed="rId1"/>
          <a:srcRect l="0" t="-4087" r="0" b="-4087"/>
          <a:stretch/>
        </p:blipFill>
        <p:spPr>
          <a:xfrm>
            <a:off x="5334120" y="1981080"/>
            <a:ext cx="3504960" cy="36576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Effective Team-Building Takes Tim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3520" y="14335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must be frequent and prolonged conta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 members come together around a specific goal or proj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ective teams go throu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tages of team 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C:\Documents and Settings\whiteand\Local Settings\Temporary Internet Files\Content.IE5\83ZOZK8K\MCj04338580000[1].png"/>
          <p:cNvPicPr/>
          <p:nvPr/>
        </p:nvPicPr>
        <p:blipFill>
          <a:blip r:embed="rId1"/>
          <a:stretch/>
        </p:blipFill>
        <p:spPr>
          <a:xfrm>
            <a:off x="4952880" y="1981080"/>
            <a:ext cx="3299040" cy="32990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4617b"/>
                </a:solidFill>
                <a:latin typeface="Arial"/>
                <a:ea typeface="Arial"/>
              </a:rPr>
              <a:t>What are the Four Stages of Team Development?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67652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orm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rm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ffective team goes through these life cycle st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C:\Documents and Settings\whiteand\Local Settings\Temporary Internet Files\Content.IE5\FQF0K39O\MCj02958590000[1].wmf"/>
          <p:cNvPicPr/>
          <p:nvPr/>
        </p:nvPicPr>
        <p:blipFill>
          <a:blip r:embed="rId1"/>
          <a:stretch/>
        </p:blipFill>
        <p:spPr>
          <a:xfrm>
            <a:off x="5105520" y="1959120"/>
            <a:ext cx="3400200" cy="2939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Form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37160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 members are introduced and begin getting to know each ot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als and tasks are establish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ly polite behavior among memb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rms are not understo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C:\Documents and Settings\whiteand\Local Settings\Temporary Internet Files\Content.IE5\JJQ8HIO1\MPj04017350000[1].jpg"/>
          <p:cNvPicPr/>
          <p:nvPr/>
        </p:nvPicPr>
        <p:blipFill>
          <a:blip r:embed="rId1"/>
          <a:stretch/>
        </p:blipFill>
        <p:spPr>
          <a:xfrm>
            <a:off x="5397480" y="1506600"/>
            <a:ext cx="2908440" cy="43606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Storm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43352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mbers are sizing each other up and may feel more comfortable and voice their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mbers may compete for team ro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y argue about goals or how they should be accomplish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y choose sides against other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whiteand\Local Settings\Temporary Internet Files\Content.IE5\JJQ8HIO1\MCj03790310000[1].wmf"/>
          <p:cNvPicPr/>
          <p:nvPr/>
        </p:nvPicPr>
        <p:blipFill>
          <a:blip r:embed="rId1"/>
          <a:stretch/>
        </p:blipFill>
        <p:spPr>
          <a:xfrm>
            <a:off x="5035680" y="2109960"/>
            <a:ext cx="3574800" cy="2995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Norm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29492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ce issues are resolved, agreement occurs around team norms and expec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ust and common interests are develop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s and objectives are clarified and understo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2" descr="C:\Documents and Settings\whiteand\Local Settings\Temporary Internet Files\Content.IE5\83ZOZK8K\MPj03993530000[1].jpg"/>
          <p:cNvPicPr/>
          <p:nvPr/>
        </p:nvPicPr>
        <p:blipFill>
          <a:blip r:embed="rId1"/>
          <a:stretch/>
        </p:blipFill>
        <p:spPr>
          <a:xfrm>
            <a:off x="5105520" y="1279440"/>
            <a:ext cx="2957400" cy="4435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Perform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50984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mbers make contributions and are motivated by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adership is shared according to members’ knowledge and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rms and culture are well underst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asks get accomplished effectively and efficient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C:\Documents and Settings\whiteand\Local Settings\Temporary Internet Files\Content.IE5\JJQ8HIO1\MPj04317390000[1].jpg"/>
          <p:cNvPicPr/>
          <p:nvPr/>
        </p:nvPicPr>
        <p:blipFill>
          <a:blip r:embed="rId1"/>
          <a:stretch/>
        </p:blipFill>
        <p:spPr>
          <a:xfrm>
            <a:off x="4906800" y="1477800"/>
            <a:ext cx="3856320" cy="3856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4038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What is a Team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or more individuals  with a high degree of interdependence geared toward the achievement of a goal or the completion of a ta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 make decisions, solve problems, provide support, accomplish missions, and plan thei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whiteand\Local Settings\Temporary Internet Files\Content.IE5\FQF0K39O\MPj04306670000[1].jpg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41440"/>
            <a:ext cx="861048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How is a Team Different from a </a:t>
            </a: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Group or Committe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 embody a collective action arising out of task interdependenc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team agree on the 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agree that they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k tog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achieve the 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ember is viewed as having one or more important roles to play to successfully achieve the 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less hierarchy within the unit than in most work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Why is Teamwork Important in Healthca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ile our healthcare delivery system has the potential to be outstanding, our system currently is not as safe, effective, or efficient as it should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moting teamwork and good communication among health professionals can dramatically improve healthcare delivery, resulting in much better outcomes for our patien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we know th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There are Many Types of Tea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amples of Team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hletic T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people working together to win a g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tural Work 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people working together every day in same office with similar processes and equi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T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cross-functional team overseeing a specific product line or customer seg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mprovement T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ad hoc team with responsibility for improving an exist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lthcare T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several healthcare professionals working closely together for the benefit of a patient or group of patient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When to use a team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Quality and Accep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2743200"/>
          <a:ext cx="6096240" cy="2873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Quality/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accep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ip a co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 Quality/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accep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k an Ex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Quality/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Accep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d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Quality/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accep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am Cons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 advTm="12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822960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Understanding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group behavio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roup Content - what is being said, the words, the discus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roup Process - how the group works, methods, ways of making decisions, how people particip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6248520" y="901800"/>
            <a:ext cx="1973160" cy="1841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15044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Aspects of Group Process: Communic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talks to whom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interrupts and how is it handled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quiet members treated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and low participators?  Shifts in participation levels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people look at each other when they talk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new members treated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2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8:22:45Z</dcterms:created>
  <dc:creator/>
  <dc:description/>
  <dc:language>en-US</dc:language>
  <cp:lastModifiedBy>Bright</cp:lastModifiedBy>
  <cp:lastPrinted>2008-08-28T18:30:07Z</cp:lastPrinted>
  <dcterms:modified xsi:type="dcterms:W3CDTF">2013-08-23T09:22:03Z</dcterms:modified>
  <cp:revision>62</cp:revision>
  <dc:subject/>
  <dc:title>An Introduction to Teamwork</dc:title>
</cp:coreProperties>
</file>